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A12-C6CF-4FB4-AC0F-5C965610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DC0-66E5-4C88-B726-3D72FAB8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5B5-482A-4F98-9426-FF48DAE5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882-FEDB-4A88-8B76-811DDA8B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4B8-7067-4629-8A70-9F71B70E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2059-C2AE-4B36-9F1F-C81181E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E43-8BCC-4A8F-84DA-AB080669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31F-6E4C-42D3-8D44-BBFB463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92A2-75CB-4C52-9A17-636767B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EE6E-AB92-454C-B38D-FA851381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E008-0F40-46A3-9DDC-B922C3C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E83-94CA-4DAA-89A3-30E6500B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F690-81AB-4E86-9571-413F2EB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171F-4B72-4E28-8C3E-870241C4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C5EA-EC07-4A87-933F-3FB1F145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D418-3641-4E71-89AB-7C3C625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EAF-3E80-408B-BA1D-85A364EE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2A1-8271-4638-9FE6-B2AF77A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C6B-1E54-4EB4-8345-92C8009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067-B8F5-45F6-ADBD-CC5CBB36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FBC-860D-4B51-9847-5385CC2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DBE-733E-4C93-AD15-9F633C7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125-E5B2-47FC-987F-A6173A9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90D-1CB5-465E-94DD-B97AEEC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F56-88E4-4706-9CEC-423615BCD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649-B283-4E2D-808C-388F728B7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rver.riverdale.k12.or.us/~bblack/meter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olving the puzzle of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hakespeare’s</a:t>
            </a: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anguage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… just how in the world did he write a play in lines that sound like poet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Dacty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acty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/^^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     ^   ^  /   ^ ^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her up ten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hakespeare wrote in iamb’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am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ri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it made up of one unstressed syllable followed by one stressed syl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xample of an iamb would b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ine of iambic pentameter flows like thi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BOOM / baBOOM / baBOOM / baBOOM / baBO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y it!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c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oem excerp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ns are meeker than they wer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ts are getting brown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rry’s cheek is plump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 is out of tow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ily Dickinso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ily Dickenson poem is iamb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ter in line one is tetrame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two is tri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three has seven syllab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four is tri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y another!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have webby wings that fold up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from ceilings hang down rolled up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when flying undismayed are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are careful; bats use rada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Frank Jacobs, “The Bat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he answe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The Bat" is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ochaic tetrame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means each line has three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oot is written in trochee. This is one stressed syllable followed by one unstressed syllable. ( /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^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man, C. Hugh and William Harmon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Handbook to Lit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Macmillan Publishing Company, 1986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nnedy, X.J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cott, Foresman, and Company, 1987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2"/>
              </a:rPr>
              <a:t>http://server.riverdale.k12.or.us/~bblack/meter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w he wrote his play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wrote many of his plays using poetic-like lines. That means his lines have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hyth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hyth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attern of stressed and unstressed syllables in a lin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yllabl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yll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accented or unaccented. (stressed or unstress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etic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unit of accented and unaccented syllables that is repeated or used in sequence with others to form the 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eter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 number of 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e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 in a line of poetry or in this case, in a line from a Shakespeare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ono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i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feet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ri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feet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etr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feet      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en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ex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ep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fe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oc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ht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ore about Feet/foo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oo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metrical unit composed of stressed and unstressed syllables. For example, an iamb or iambic foot is represented by ˘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is, an unaccented syllable followed by an accented one. Frost's line "Whose woods/ these are/ I think/ I know" contains four iambs, and is thus an iambic fo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cansio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can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Describing and labeling the rhythms of poetry by dividing the lines into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e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rking the locations of stressed and unstressed syllables, and counting the syllabl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‘feet’ - Iambic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am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^/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   /   ^    /   ^  /  ^     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lling out of faithful frien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 / ^    /  ^   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ewing is of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oche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oche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/^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   ^      /  ^    /    ^    /  ^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, double toil and trouble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ape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napes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^^/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^   /   ^     ^  /  ^ ^  /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monarch of all I 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3:11:30Z</dcterms:created>
  <dc:creator>Greenville Schools</dc:creator>
  <dc:description/>
  <cp:keywords/>
  <dc:language>en-US</dc:language>
  <cp:lastModifiedBy>Greenville Schools</cp:lastModifiedBy>
  <dcterms:modified xsi:type="dcterms:W3CDTF">2008-02-27T00:47:30Z</dcterms:modified>
  <cp:revision>16</cp:revision>
  <dc:subject/>
  <dc:title>Solving the puzzle of Shakespeare’s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